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0113-C507-4D07-BC5F-44334848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BD1-5D59-43B3-B95E-A6727B00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A2A-E39D-4170-817E-B15A842D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BA30-4D89-4562-A423-1065E253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6D1C-13D0-4FE1-AA50-EFBF01FD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2515-3205-45E3-BEA6-1C4BF312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6539-5B82-415B-A413-B75CB165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46CB-A8B4-4D62-9747-E501691F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D9E5-9E4F-481B-8FE9-A0C6F4AB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BAA7-5F85-483B-836E-CCCCA3C4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719F-B76E-4F59-8985-64ED2530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38CB-A1DD-4015-9D88-C5567053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F7E7-54C5-40B7-8B20-94EC8D6D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EE3D-7B1A-4662-BB78-9E0536B8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D47E-62B4-4400-A3A2-64901E24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EB3E-4FB3-46B5-B199-1CD0AF9D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731E-ED51-4357-8A2F-818CEE6A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99FE-9799-43E7-90F3-5389E3FC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9AC-75D0-48B1-B218-2D8EB03A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DC1B-86E4-4756-B08D-819AA2D0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1EA7-C79C-4F43-AD6D-A3846B06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A24D-C475-4EF3-8F56-1D4E1782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FBFF-3760-43BA-8C3F-BB653247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AA6A-4656-4AAC-8FF2-52AD7A63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C75B-C513-4922-9425-1F69C4EF69B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28A6-92ED-4237-957E-7D415C0FA1A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merica’s Manifest Destiny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(1835-1850)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xican-American War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1846-1848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Picture 6" descr="map of Major Battles and American Troop Movements during Mexican War"/>
          <p:cNvPicPr/>
          <p:nvPr/>
        </p:nvPicPr>
        <p:blipFill>
          <a:blip r:embed="rId1"/>
          <a:stretch/>
        </p:blipFill>
        <p:spPr>
          <a:xfrm>
            <a:off x="1219320" y="1428840"/>
            <a:ext cx="723888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reaty of Guadalupe Hidalg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Picture 6" descr="usland"/>
          <p:cNvPicPr/>
          <p:nvPr/>
        </p:nvPicPr>
        <p:blipFill>
          <a:blip r:embed="rId1"/>
          <a:stretch/>
        </p:blipFill>
        <p:spPr>
          <a:xfrm>
            <a:off x="533520" y="1143000"/>
            <a:ext cx="822960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6633"/>
                </a:solidFill>
                <a:latin typeface="Garamond"/>
              </a:rPr>
              <a:t>It is our manifest destiny to control the land from sea to shining sea –in this great experiment of liberty…New York Journalist, </a:t>
            </a: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John O’Sullivan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8" name="Picture 6" descr="external image manifest%20destiny.jpg"/>
          <p:cNvPicPr/>
          <p:nvPr/>
        </p:nvPicPr>
        <p:blipFill>
          <a:blip r:embed="rId1"/>
          <a:stretch/>
        </p:blipFill>
        <p:spPr>
          <a:xfrm>
            <a:off x="304920" y="973080"/>
            <a:ext cx="8458200" cy="5199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2959560" y="6132600"/>
            <a:ext cx="36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nting by: John Gast, circa 18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nifest Destiny in the early 1800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s with Lewis and Clark Expedition (180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egon Trail ---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most feasible way to travel over m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nta Fe Tra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mon Mig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ifornia Gold Ru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as Indepen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xican-American W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estward Expans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a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life, freed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e g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ape religious pers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ansion of slave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ff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ansion of business, cities, states, farms, railr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mon settlement in Ut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ing Tow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tlement of Califor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ve Americans loss of 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portant Ter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xans: Anglo Americans who immigr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janos: Native born Tex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xico gains independence from Spain in 1821 (Monroe secretly aided the rebels) &amp;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ncourages immigration to Tex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&amp; most famous empresario: Stephen Aust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ap land and tax exem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829: Mexican gov’t abolishes slave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830s, Santa Anna – president/dictator of Mexico ----- Problems Escalate!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xas Independen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Picture 5" descr="texas-revolution-map"/>
          <p:cNvPicPr/>
          <p:nvPr/>
        </p:nvPicPr>
        <p:blipFill>
          <a:blip r:embed="rId1"/>
          <a:stretch/>
        </p:blipFill>
        <p:spPr>
          <a:xfrm>
            <a:off x="1371600" y="1290600"/>
            <a:ext cx="6477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portant Ter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520" y="83808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nta Anna imposes a more autocratic and conservative regime --- limiting the powers of the individual Mexican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836, American/Mexican settlers in Texas declared indepen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amo: William Travis, James Bowie, Davey Crocket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 Houston – commanding general of TX ar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esident of Texas immediately sough annex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ident Jackson ----sectional controversy and possible war with Mex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845 – Texas becomes a slave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4, 40, or fight --- Oregon, 184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torming of the Alam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Picture 5" descr="Mvc-SOTA1"/>
          <p:cNvPicPr/>
          <p:nvPr/>
        </p:nvPicPr>
        <p:blipFill>
          <a:blip r:embed="rId1"/>
          <a:stretch/>
        </p:blipFill>
        <p:spPr>
          <a:xfrm>
            <a:off x="609480" y="915840"/>
            <a:ext cx="7925040" cy="59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urrender at San Jacin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Picture 5" descr="Texas%20Revolution%20End"/>
          <p:cNvPicPr/>
          <p:nvPr/>
        </p:nvPicPr>
        <p:blipFill>
          <a:blip r:embed="rId1"/>
          <a:stretch/>
        </p:blipFill>
        <p:spPr>
          <a:xfrm>
            <a:off x="685800" y="1484280"/>
            <a:ext cx="81532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2:08:40Z</dcterms:created>
  <dc:creator>udsd</dc:creator>
  <dc:description/>
  <dc:language>en-US</dc:language>
  <cp:lastModifiedBy>Danielle McNamara</cp:lastModifiedBy>
  <dcterms:modified xsi:type="dcterms:W3CDTF">2014-10-24T14:37:04Z</dcterms:modified>
  <cp:revision>10</cp:revision>
  <dc:subject/>
  <dc:title>Our Manifest Destiny</dc:title>
</cp:coreProperties>
</file>